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C6D2-64C9-4D4E-B10B-6A414905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6AF-FCD0-41CE-B327-F26C9607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37151-1A42-4016-8875-F4356148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0A5D6-6A8A-4739-B95E-49FAEFF4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9FC9C-6ABA-4234-A43F-9574917A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6E288-951B-4374-8C7E-83A7BCED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695E6-341A-4691-AF24-2207876B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6647C-DC76-4C49-AFC4-5A55A670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FD3F6-F4AD-4E3F-AB59-54B2229B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33446-8AD4-4D7C-B74C-157A0264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C6C0C-C5CD-4377-A740-4E43EBF8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F60EC-800B-41F7-961B-392EB5AA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03D-3519-47B7-98B5-389F9769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B3C45-F968-49E0-8D4C-DB53A6EC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D1C10-D413-4C45-9A24-89DD326A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D271E-37DA-4CB5-B80E-3F77DDB1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F0C21-1FB6-4894-9799-4DEAFFCE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8436C-5AD7-4035-9E3F-F9E5C51E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CBF07-97EC-45D1-BA5D-E3B25EE9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651FD-0485-476D-AAAA-05E45B6D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831A0-3F07-4AF1-81FB-C88D3419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B6D63-E94E-4702-A2A9-395DD348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0A4D1-DA23-4DF6-9973-1C679AF6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79C-513D-44B3-B851-ED80B56E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7A3EF-8D28-4046-B053-D99AB8D6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72390-7E05-4580-97DB-46F46E68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CED48-E1D2-49FB-8644-3E2E35A2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FED9C-EC38-4F63-A516-C4EC89B6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14800-F5AE-4D0C-9D1D-43848F39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865E5-4B59-458C-866E-93DC6E22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C437F-D40C-4B86-85FF-5D904BCA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D3490-3E1D-4444-BA17-144029D2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96833-8336-4CAE-906A-B66297A9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81766-BFE2-49EA-BBA2-3235C9CB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3658-3F3F-41E5-B13E-B9AF1C5D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91469-4D79-459D-8509-78C32927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8FCAA-B002-4914-8CBB-A4098E88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AAE77-EDEB-4D6D-8509-50F99C77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472F6-49ED-48A1-9A91-7B714632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A6140-C357-456D-91D2-1DF5035A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2F4C8-F5FC-4CDF-B494-B2A42C10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1971E-6B62-4293-92ED-D7ED15EF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8A16B-7F5A-456B-9306-B8F1DDC3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AE644-BA42-4971-8B6C-A0EEF83B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C1FA3-B9A0-44FB-9AFB-268452E3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5087-29B3-4E30-B77B-34A6A88E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7D1E9-FD12-41ED-8BC2-BE454428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C2978-A175-4704-B008-5A2BF3B3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1ABE1-B9AA-403D-B3BD-6B999F09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5F507-6BCE-47D6-9205-538298A7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520B7-C641-46E1-94A7-9C03FCE8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C9E06F-9B7F-4B65-A4E7-DAD5E54D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ACB28-E235-45BF-9FE9-947F12E7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F3E0DE-7835-4C2E-B9A3-A88C0F7F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A0850-3E53-404D-A7B8-F0C93C6E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0A44E-4539-4AF2-9C2A-C415ADDE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56AE-87C1-4B8B-BB22-AF71A752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38C03-BEB4-44DF-99EA-F7CD3099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BB7E1-F7C0-4CD6-A87D-DF32D230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057E4E-B2BF-4884-ADBA-A96CD7F3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5F182-03ED-4538-AFC2-35EF4774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B6E06-CBAE-45FE-BF84-8FE8BF0F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90945-52E5-445F-9098-6A908FF8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D717D-A5E4-40C0-8A04-15C084FE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97EA43-FC84-4209-AEE5-01C7852A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E1018A-DB16-49E6-978E-38091BFC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BD9483-E645-4A7E-95B6-61891539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DFB8-65A0-4660-8DF4-ABF69D41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433178-3F37-4649-BFD7-CAB7D0D5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50E7B-E122-45A1-9D22-C0263A9D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654822-4B67-4B80-9A36-20213CE4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09F7F-6A42-4666-A348-EB3CADA7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46E1A-8F70-4B8E-A94B-8AB1A065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67A01-D172-4850-873C-A7DFCBA9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567F7D-7A6B-4E96-9CEB-7FCE414B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A41B0-F851-4437-B839-C4D7FCC8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24917C-B7CC-4A46-A2C4-AF3ED5AC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414084-7BB4-4D7A-BFB1-00DBB700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F077-6D13-4F54-8099-91C2E276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C0212D-FC9E-4DDD-875B-05C821F9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1A740C-399D-4F3B-A384-28CBA709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1F0227-4A67-4BCE-BEAA-D181AEEF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D99FE-7487-4931-A002-0E745B50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72DBB7-966E-4A88-81E7-E462B00A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12DDA2-ECAC-4D94-99ED-C9991559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9057D1-10B3-4815-97AB-FEF6920E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72E2AE-19E2-4B83-AB28-C708C343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155DA4-093B-42F9-940D-CF8750BA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425C8-369F-4963-B65A-38E71894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DCA7-C014-40A7-A3F3-3C34E1F7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3EDC75-E98B-4EDA-A9C5-F8BBAE78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F1AB7-6AE2-4FC4-BC96-8DF8864F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FE05B7-ACF0-4EB1-8ECA-39B6A86A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857292-B1C1-441D-88EA-C70F7859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8FA1AA-922F-4E74-AAB7-282FFCAF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D9E819-52DB-4F04-8896-A37B05A8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6FADF0-C893-452D-9A4E-91E8B8F0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3679DD-50F6-45AA-931A-0802B8CE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FC92B3-BE45-4D6D-9656-2C8343A8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368CFA-2EDE-4B74-A48A-06A3F3B8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1739-3E6D-4302-B4C9-5EAF12D2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82948A-A753-4F94-ADA7-3E99AC27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93D218-8FED-474D-AA51-63516F8E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79B62A-5B1B-4EDA-BDB0-1687E4FE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F5508E-4FE7-485B-9A75-DA0094BE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B29FB5-9DEF-4D3E-9E32-5DEE2BBF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E88C07-2739-4CBA-B450-C392F538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D7BF75-34BA-4A19-92D6-EFB6A1B1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E6633F-D15C-4934-8A76-B7BDC42C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ACAC95-63AE-43DF-8F8F-3D31CA7F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38F106-F5C8-4C93-9479-37C40D20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13C-E50F-4557-9C3C-73FF2974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AB75-6247-4E05-84A9-7C3DD483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283C15-6781-4AB5-B03A-4A56E31C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0FFDAA-1A8B-4AFE-B88F-DFBB9198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E33970-B500-4253-A4B1-40532561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1AA590-143D-45B9-B402-D9BE1EC1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C7CC2E-4DE2-47C4-A08A-939B4545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87F599-9190-4E47-A06A-CB153C11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78EEA4-33B6-4CA7-92A7-E4BD3DBE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D1A085-30DB-4179-A897-2D5EF870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CA8553-8974-49A9-9336-2E2A11F4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E6D89E-72AA-4B15-86DA-C87C4389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C6B7-7BB1-4F37-8AA8-217E7071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043056-2432-4DD2-896B-3A4835C8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D47C18-C059-4A8B-8038-B3DFCBDE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C2F0EE-8D3D-4068-8F6C-2CAE60C8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A76F5C-CA57-4F1B-A900-C41538EF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568414-F95C-4B44-8E7B-C2222602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852CA9-BD86-4C7C-9663-DD94E829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3012E5-6C5E-4223-9179-18299FDB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1F773A-6686-4282-ACCF-8F2E09AA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87985C-BC34-4616-8F0D-A5BB0451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3EDDC5-898B-4B19-BD0D-2916F69E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8974-E6C6-4DFB-865E-DC01B0FA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594CE7-6186-4BF8-807A-A0287856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CFB104-DBF9-4194-BBD3-D9347DD6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295360-A61F-4FE6-9B85-821044B4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2B3982-C654-4647-95D6-4100964C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1FD4CD-CA53-4770-9C84-C8CBB01F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6324CA-CF4D-4740-9AF1-1555ED5F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6345F9-C977-423C-B39A-16A3D722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712F93-E110-46AE-BCE0-F0CEF464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30B81E-A95D-41A6-9AB5-6CD22C8C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70805F-D92E-479F-9879-725A1D3E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AB7C-F7BC-4A0D-A345-52D26155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5BDCF6-A16F-475B-BBE9-4EEE690B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1C3AF4-3AA3-4D95-A0C2-78C01037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B53786-61BD-4947-9301-6D147F20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1E2CB3-F4B4-4254-834B-5D52BAA7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31AA50-3C0E-45C3-BE99-18C13D18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259C14-22CF-4511-8E12-DBBE3E09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481116-E624-4ECC-B8CC-EC082962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E904D9-0D31-4E9E-A635-7B81896E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EF2AD1-3E1A-43AE-9F7A-BA5AA944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C020AA-31A9-4B9D-8680-42765D48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DA5F-6A6C-458D-82DF-FB4D3E12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0F0E08-0B2F-4CF0-9A52-17FD043D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695A73-DE4B-4CA3-B043-C6E4265A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8653E8-6D0B-41C0-9ADA-8FFD6385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685C0C-1F53-4D94-A6E0-CD3AEE87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D0FC17-AFF2-4C03-8B95-7E3EF58E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0E6412-9F6F-4D68-A80C-3C046C6E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1EA5CC-7CB8-4364-A347-419E24ED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680D2C-0202-49A8-A2CB-2757908D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73C440-F523-4F07-802F-E603EC61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B29D30-0CB5-44B8-992D-41DB86FD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8E4A9-AA96-4565-B122-DE3644DA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24B00F-10FA-4BAB-BAA2-B84ACAC9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B5099A-5B44-4136-8620-6AB0B979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0C3FDE-3A65-41FC-ADE6-8DAAF518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24C0D-6856-491B-8712-9358EBFF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1F61C-4E37-4B1D-8F79-1CC14E5E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1ED87-359B-4CAB-81AA-3FEBEB69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DCEEF-4A84-4E5A-8207-E6DE0D1A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9AA-1926-4F14-BA9E-977B7782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2B533-606C-4F51-9054-6AD0A102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EAE1B-D6EC-4CC2-B912-9C7F76BD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5AF1F-A51A-44FF-81C3-1953800A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703D6-295F-48A3-A862-A2290C13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601B6-0C7E-44AD-B654-0024DBDF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7E235-D182-45B4-83C5-C090B11F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BD1DE-DBA3-482E-90CE-D63F24A0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42C7F-1DD5-4C1F-866D-50B59F26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A3839-303F-418A-8C1B-89E52D1C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36DEA-0196-428A-91D1-B4AB678E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8F6-BF5D-4836-8BE7-1D348DCE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B514B-A30A-49D3-96EF-35FBD2DB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FA821-28E0-493A-B1E8-4337E95D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F7263-9B99-496F-956B-3E67C3D3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19C16-3681-45C6-91DF-0426461E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68168-32B2-431C-B29C-014EE1DA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3E386-C529-4B4B-BA6D-77922178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73D4B-6EAF-4D4A-B602-55C88640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FC461-4906-48B4-BE1E-3B201082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DF6EC-2CDC-4F53-9689-D375B45D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E99DE-334D-4C39-B1AB-C3B7B968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5B08-2365-4AA0-B5B5-C2C7863C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B2020-F466-4EE3-8F7A-6BA01753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867E6-EAEF-47FA-B794-87199958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00CC1-1689-429B-9ADE-8DA3C765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0DBA5-E336-4F2F-BA86-6B83E891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1B32A-9565-4AB8-A9E8-8BFB1532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D6746-5029-4E3F-B589-ABB796DD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FD7C9-B305-4BE2-8CC2-ADAE0805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13507-6AA3-4060-AE93-F76A6492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E84DB-E41E-4F4C-84B2-83F73DAA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8DE41-C0A2-4082-B617-56B1C887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DBE-0940-406F-933B-471925E1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4304A-9A0F-4102-AF90-D6B1980B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B897A-337A-49BF-B4E2-2740F61F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3710E-764B-4AE2-A9BB-8644711B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FBBAD-E55F-4EA9-B7E6-CF450258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3E0A2-9978-41BF-A1CF-4BF19EF0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05326-810B-4484-8F32-B2F7C2FA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EB71E-2705-46EA-BF32-B59DC39C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09285-8E8E-4EDD-B3EA-899A15F9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99347-5190-4A4C-9A3B-BD26F792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0FAB8-B9FF-404D-93EA-DB8E18EB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EA1-51CC-40DD-805E-7F9B9C0E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BE8B5-141C-4BAF-B891-F7365306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E6F27-DDC3-4466-9349-AF24A9AD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01F46-1233-4400-8BD3-F2B90F51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87587-329C-4F64-BA5A-23D39658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09C9B-3FE8-4FD6-92AA-28C9BEDB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4B518-7045-4A83-A5A4-74A2F013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A36B6-7E7E-4F06-BE4C-77A530E5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C71BF-3D73-4E19-9997-5DA771EA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398D7-3EA0-45F8-B2A8-864B43E1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C476C-E9FF-403F-8D6E-BD69E02E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4E4-8F97-402C-B317-4CA30A90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94FF2-01F6-4D6E-B816-2D8C3038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B113C-32B0-45A9-8A11-D5C4F35F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4B431-3735-4DAE-B589-D0B67F16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F2FDB-1982-4C80-83A1-415BEA2F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3D0A5-DE88-4088-BFC5-6F7B0188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4D0DD-5502-4B8B-8C77-40F8E559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16685-FBF6-4EE3-97A7-763E9792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F07DF-BEFC-49D8-8088-C9B1FA20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FD6B3-5FD6-41C3-8729-791462E2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0E50A-965D-4EB4-8A5D-DDD456C0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46A-FC71-4086-9026-0466A2E0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314E8-C896-4BBF-BA0B-16BF589C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0BC06-E4AA-4FC1-9A77-0C40A36B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96F1E-CBF8-426A-AFAC-8D26777E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370C6-009E-41BE-822D-06711D03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8D62A-7A2A-4379-80F0-7A01CF24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40108-EAA4-4ECC-9E3A-A056B4AE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8C885-7450-4BDC-AA6F-D74A9FF0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8A736-FFF5-4F20-B0BE-17806D21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A641C-3BC1-40B9-864F-138D0818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4E314-A2C3-40A7-AC42-788907F7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F972-B04E-4DFE-82E6-D89652CF42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D234-A9FB-4F40-B0D0-A14493C18A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37D3-5EF5-461D-AEFA-44FE338A7B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B14D-0DDF-4583-9E9A-281FCA87D6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8CCD-C67F-4A16-8765-F3BE20BC0E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3EB0-E13D-4936-A3D7-8DBC9BCE4F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7B97-B19C-4617-A9F3-45B9A82890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5BE8-A896-4076-A7D6-C829133A37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AC9F-0911-4314-A72E-4A56A1756C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2A5F-97FA-4775-BC25-CE1396D288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2AB8-45B1-4E53-9196-2D59ED67A4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FD01-4D2F-43CA-A617-85CDFECD04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3513-52BE-442E-8244-5FD883ADD0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5490-544A-4B76-A4B8-2ACF2C23A4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042A-5B92-4D3F-8BE0-EF0D9FD665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8981-86AF-4FCE-B7D6-71C5BB5887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2E3E-72F2-489E-A939-00899A5EA9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7FFD-C96A-41ED-AD37-417E739283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7AB8-2E3D-43C0-B616-9C0566CC58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73E9-ED63-4205-A255-DFDEA34C60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8791-018E-4975-A9F4-1318C39255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0894-3FE3-4F39-8E88-385F9B5755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8D89-0733-485B-8B53-7D4E877FF1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952D-1C59-4BCE-ADA9-D95E50D5F2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5A3B-6B1C-496C-A4AA-B2F5674842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F11A-F6C9-4C37-AD71-9C4AC4C359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165E-6FB5-4910-9B95-90CFA86030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DEC3-5020-484F-B95F-7A9815C2AA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6565-1369-4B58-9B42-E08C0F99C8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0D67-325D-481E-8EAD-99E4C5CDC6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A060-3749-40D3-BCA2-C74D6FAF39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D0BF-EB9C-42A3-8FE5-845CFC15F1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608A-924C-4B77-BB46-164B4B8F7E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5DFE-17C2-45BD-A090-469B777085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D46D-BA72-4FCE-AD7B-42F12E1EED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75C3-0C74-44A0-9070-24143D3F6D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0EFD-A2BA-4106-A43A-8BF46D3FB0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2BD5-887B-4352-9B0A-2435BB78E7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8426-2BFA-4D59-AEFC-14B174A429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6356-359E-4584-8DDD-615938C88C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29080" y="3147840"/>
            <a:ext cx="3886200" cy="5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38040" y="1486080"/>
            <a:ext cx="8467920" cy="38862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700360" y="2717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700360" y="32320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700360" y="3726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218280" y="27082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8018640" y="2727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194520" y="3213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8028000" y="32418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6184800" y="37162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8028000" y="3726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60438" descr=""/>
          <p:cNvPicPr/>
          <p:nvPr/>
        </p:nvPicPr>
        <p:blipFill>
          <a:blip r:embed="rId11"/>
          <a:stretch/>
        </p:blipFill>
        <p:spPr>
          <a:xfrm>
            <a:off x="1130400" y="4581360"/>
            <a:ext cx="366480" cy="40356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60439" descr=""/>
          <p:cNvPicPr/>
          <p:nvPr/>
        </p:nvPicPr>
        <p:blipFill>
          <a:blip r:embed="rId12"/>
          <a:stretch/>
        </p:blipFill>
        <p:spPr>
          <a:xfrm>
            <a:off x="3357720" y="4581360"/>
            <a:ext cx="358560" cy="39384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60440" descr=""/>
          <p:cNvPicPr/>
          <p:nvPr/>
        </p:nvPicPr>
        <p:blipFill>
          <a:blip r:embed="rId13"/>
          <a:stretch/>
        </p:blipFill>
        <p:spPr>
          <a:xfrm>
            <a:off x="5540400" y="4595760"/>
            <a:ext cx="358920" cy="393840"/>
          </a:xfrm>
          <a:prstGeom prst="rect">
            <a:avLst/>
          </a:prstGeom>
          <a:ln w="0">
            <a:noFill/>
          </a:ln>
        </p:spPr>
      </p:pic>
      <p:pic>
        <p:nvPicPr>
          <p:cNvPr id="935" name="图片 60441" descr=""/>
          <p:cNvPicPr/>
          <p:nvPr/>
        </p:nvPicPr>
        <p:blipFill>
          <a:blip r:embed="rId14"/>
          <a:stretch/>
        </p:blipFill>
        <p:spPr>
          <a:xfrm>
            <a:off x="7894800" y="4629240"/>
            <a:ext cx="323640" cy="35568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60442" descr=""/>
          <p:cNvPicPr/>
          <p:nvPr/>
        </p:nvPicPr>
        <p:blipFill>
          <a:blip r:embed="rId15"/>
          <a:stretch/>
        </p:blipFill>
        <p:spPr>
          <a:xfrm>
            <a:off x="1127160" y="4970520"/>
            <a:ext cx="384120" cy="42228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60443" descr=""/>
          <p:cNvPicPr/>
          <p:nvPr/>
        </p:nvPicPr>
        <p:blipFill>
          <a:blip r:embed="rId16"/>
          <a:stretch/>
        </p:blipFill>
        <p:spPr>
          <a:xfrm>
            <a:off x="3191040" y="4970520"/>
            <a:ext cx="384120" cy="42228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60444" descr=""/>
          <p:cNvPicPr/>
          <p:nvPr/>
        </p:nvPicPr>
        <p:blipFill>
          <a:blip r:embed="rId17"/>
          <a:stretch/>
        </p:blipFill>
        <p:spPr>
          <a:xfrm>
            <a:off x="5664240" y="5008680"/>
            <a:ext cx="345960" cy="37944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60445" descr=""/>
          <p:cNvPicPr/>
          <p:nvPr/>
        </p:nvPicPr>
        <p:blipFill>
          <a:blip r:embed="rId18"/>
          <a:stretch/>
        </p:blipFill>
        <p:spPr>
          <a:xfrm>
            <a:off x="7715160" y="4998960"/>
            <a:ext cx="368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9410" descr=""/>
          <p:cNvPicPr/>
          <p:nvPr/>
        </p:nvPicPr>
        <p:blipFill>
          <a:blip r:embed="rId1"/>
          <a:stretch/>
        </p:blipFill>
        <p:spPr>
          <a:xfrm>
            <a:off x="528480" y="2271600"/>
            <a:ext cx="8087040" cy="231480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59411" descr=""/>
          <p:cNvPicPr/>
          <p:nvPr/>
        </p:nvPicPr>
        <p:blipFill>
          <a:blip r:embed="rId2"/>
          <a:stretch/>
        </p:blipFill>
        <p:spPr>
          <a:xfrm>
            <a:off x="880920" y="2666880"/>
            <a:ext cx="73821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8373" descr=""/>
          <p:cNvPicPr/>
          <p:nvPr/>
        </p:nvPicPr>
        <p:blipFill>
          <a:blip r:embed="rId1"/>
          <a:stretch/>
        </p:blipFill>
        <p:spPr>
          <a:xfrm>
            <a:off x="181080" y="797040"/>
            <a:ext cx="8781840" cy="58006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1873440" cy="257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826920" y="2368440"/>
            <a:ext cx="2449800" cy="257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684360" y="3348000"/>
            <a:ext cx="244944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468360" y="5364000"/>
            <a:ext cx="244944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468360" y="5695920"/>
            <a:ext cx="244944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468360" y="6012000"/>
            <a:ext cx="561636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8"/>
          <a:stretch/>
        </p:blipFill>
        <p:spPr>
          <a:xfrm>
            <a:off x="8475840" y="33130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9"/>
          <a:stretch/>
        </p:blipFill>
        <p:spPr>
          <a:xfrm>
            <a:off x="8459640" y="3735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0"/>
          <a:stretch/>
        </p:blipFill>
        <p:spPr>
          <a:xfrm>
            <a:off x="8459640" y="41590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1"/>
          <a:stretch/>
        </p:blipFill>
        <p:spPr>
          <a:xfrm>
            <a:off x="8469360" y="45813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2"/>
          <a:stretch/>
        </p:blipFill>
        <p:spPr>
          <a:xfrm>
            <a:off x="8469360" y="50036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3"/>
          <a:stretch/>
        </p:blipFill>
        <p:spPr>
          <a:xfrm>
            <a:off x="8459640" y="53928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4"/>
          <a:stretch/>
        </p:blipFill>
        <p:spPr>
          <a:xfrm>
            <a:off x="8459640" y="5815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5"/>
          <a:stretch/>
        </p:blipFill>
        <p:spPr>
          <a:xfrm>
            <a:off x="8469360" y="6237360"/>
            <a:ext cx="288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41:55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